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31D5-406E-4FEA-B78D-0E6D7C833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F579-952F-4D68-97EC-978DBD12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1743-7D78-4F73-8C26-230230D65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7364-089B-4CDF-A853-06889212E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C5B2E-C33D-4858-8264-5094F3013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9BB5-2FCD-4C7D-8DF5-4FF50D35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810B0-379E-4ED7-8F07-DE9FAC19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5484-BD09-45C3-AA7A-5A95AF6C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AFC49-9498-45C7-A0AA-8309F388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DCD7-8F65-4FF3-B3C2-E5531166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68EDC-3D70-4A0D-9525-B09CB433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CC3D-4E8F-45C3-9367-6A092AF2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5023-5249-4F25-928A-164F1FB6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7F18-EACD-43A8-A534-7F6E8F49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5F211-2E80-456E-8CA8-7AFC0867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C8AD-6EFA-4935-AE5F-922825E3C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31D3-D76D-43CD-BD43-382809C2F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369E-2FB0-4726-AD96-8798D266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D0E8-F61F-4512-9B19-44DB4176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2993-947A-4F01-9A65-D5FA8FC0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1287-CE3B-4571-B52D-9FDF2CAD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33F7-DCFF-44F3-B6E8-F5753E3A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AC03-7C20-4935-B962-C0E86B73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3D5A-02CF-4E66-9681-EE029282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1A98-4655-4474-9E4B-B903040B311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7084-46C7-4D2F-876B-BBA312332E5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66"/>
                </a:solidFill>
                <a:latin typeface="Arial"/>
              </a:rPr>
              <a:t>ЛИШНИЙ ВЕС</a:t>
            </a:r>
            <a:endParaRPr b="1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Или как съесть больше, а весить меньше!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ТО ЖЕ ДЕЛАЕТ НАС  ПОЛНЫМИ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14400" y="1981080"/>
          <a:ext cx="8001000" cy="4343400"/>
        </p:xfrm>
        <a:graphic>
          <a:graphicData uri="http://schemas.openxmlformats.org/drawingml/2006/table">
            <a:tbl>
              <a:tblPr/>
              <a:tblGrid>
                <a:gridCol w="2209680"/>
                <a:gridCol w="2590920"/>
                <a:gridCol w="3200400"/>
              </a:tblGrid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Black"/>
                        </a:rPr>
                        <a:t>ВИД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Black"/>
                        </a:rPr>
                        <a:t>КАЛОРИЙ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Black"/>
                        </a:rPr>
                        <a:t>КОЛИЧЕСТВО КАЛОРИЙ В 1 г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 Black"/>
                        </a:rPr>
                        <a:t>ПРОЦЕНТ ЭНЕРГИИ, НЕОБХОДИМОЙ ДЛЯ ОТЛОЖЕНИЯ В ЖИРОВУЮ ТКАНЬ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ЖИРЫ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 ккал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ГЛЕВОДЫ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 ккал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3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СНОВНЫЕ ИСТОЧНИКИ ЖИРА В НАШЕМ ПИТАН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5562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Мясо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5943600"/>
            <a:ext cx="7467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Рекомендация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: 3-4 ст. ложки в день растительного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                  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масла для здорового человека достаточно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705720" y="2514600"/>
            <a:ext cx="2057400" cy="127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629400" y="3886200"/>
            <a:ext cx="2057400" cy="107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6934320" y="4800600"/>
          <a:ext cx="44136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4320" y="4800600"/>
                    <a:ext cx="4413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7086600" y="5716440"/>
            <a:ext cx="1600200" cy="608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38080" y="41148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Молочные продукты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530208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Растительные масла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ФИЗИЧЕСКИЕ УПРАЖНЕ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315200" y="2438280"/>
            <a:ext cx="990720" cy="812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467480" y="3429000"/>
            <a:ext cx="1381320" cy="16765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086600" y="5257800"/>
            <a:ext cx="1822320" cy="1243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914400" y="3581280"/>
            <a:ext cx="6705720" cy="19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и занятия физкультурой 20 минут 2 раза в день, необходимо снизить потребление калорий только на 17% для достижения того же результат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5181480"/>
            <a:ext cx="6172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благодаря упражнениям повышается метаболизм и вы теряете вес даже во время отдых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2438280"/>
            <a:ext cx="6705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чтобы сбросить 0,5 кг в неделю необходимо снизить потребление калорий на 28%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ЛУЧШЕ НИКОГДА, ЧЕМ ПОЗДН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Активность на протяжении дня способствует сжиганию калорий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Поддержание температуры тела требует калорий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Температура тела максимальна в 2-3 часа дня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Вечером температура ниже, чем днём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При снижении активности и температуры тела сжигается меньше калорий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5486400"/>
            <a:ext cx="792468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«Я никогда не встречал полного человека, который бы не пропускал завтрак и не отказывался от ужина»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Times New Roman"/>
              </a:rPr>
              <a:t>Пэт Харпер, доктор Американской Диетической Ассоциации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657600" y="2438280"/>
            <a:ext cx="2033640" cy="39625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ТО ОБЩЕГО У ПОЛНЫХ   ЛЮДЕ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Любят плотный ужин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Завтракают мало, или вообще не завтракаю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Часто перекусываю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Едят быстро, не пережёвывая пищу как следуе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Не пьют достаточного количества вод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Малоподвижн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едпочитают пищу из очищенных продукт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Любят жирную пищ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ЭФФЕКТИВНАЯ ПРОГРАММА СНИЖЕНИЯ ВЕС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743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Снизьте употребление жиров и очищенной пищи, включите в свой рацион продукты, богатые клетчаткой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Упражняйтесь ежедневно 40 минут в день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Откажитесь от ужина, или сделайте его лёгким и ранним (за 4 часа до сна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Не перекусывайте, вместо этого пейте воду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257800" y="3124080"/>
            <a:ext cx="3598920" cy="3468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ОПРЕДЕЛЕНИЯ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вышенный вес – 10…19% выше норм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жирение – 20% и больше выше норм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ЕКОМЕНДУЕМЫЙ ВЕС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14400" y="2666880"/>
          <a:ext cx="8001000" cy="4033800"/>
        </p:xfrm>
        <a:graphic>
          <a:graphicData uri="http://schemas.openxmlformats.org/drawingml/2006/table">
            <a:tbl>
              <a:tblPr/>
              <a:tblGrid>
                <a:gridCol w="2000160"/>
                <a:gridCol w="2000520"/>
                <a:gridCol w="2000160"/>
                <a:gridCol w="2000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ст,        см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ла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я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ольша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-4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-5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-5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-5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-5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-5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-5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-5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-6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-5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-6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-6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-5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-6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-7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-6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-6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-7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-6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-7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-7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1295280" y="19051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женщины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040600" y="228600"/>
            <a:ext cx="646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" dur="1" fill="hold"/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ЕКОМЕНДУЕМЫЙ ВЕС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19051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ужчины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914400" y="2433600"/>
          <a:ext cx="8001000" cy="4271760"/>
        </p:xfrm>
        <a:graphic>
          <a:graphicData uri="http://schemas.openxmlformats.org/drawingml/2006/table">
            <a:tbl>
              <a:tblPr/>
              <a:tblGrid>
                <a:gridCol w="2000160"/>
                <a:gridCol w="2000520"/>
                <a:gridCol w="2000160"/>
                <a:gridCol w="2000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ст,        см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ла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я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ольша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7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-56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-60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-65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-59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-6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-69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-62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-67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-7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-66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-71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-77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-70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-75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-81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-7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-79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-81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-7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-84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-90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-81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-8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-95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086600" y="228600"/>
            <a:ext cx="175248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НДЕКС МАССЫ ТЕЛ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3648240"/>
            <a:ext cx="586728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МТ = ВЕС : (РОСТ в МЕТРАХ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6472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4800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МТ=18.5 до 26.9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ТРАДАЮЩИЕ ОЖИРЕНИЕМ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Имеют в 3 раза больше риск инфарк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 4 раза больше склонны к повышенному давлению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 5 раз чаще болеют диабето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ероятность повышенного уровня холестерина в 5 раз больш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 6 раз чаще страдают болезнями желчного пузыр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Чаще болеют рако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Более склонны к депресс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629400" y="5029200"/>
            <a:ext cx="1539720" cy="1600200"/>
            <a:chOff x="6629400" y="5029200"/>
            <a:chExt cx="1539720" cy="160020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6629400" y="5029200"/>
              <a:ext cx="153972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6629400" y="5029200"/>
              <a:ext cx="1539720" cy="160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3366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214280" y="2362320"/>
          <a:ext cx="671688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2362320"/>
                    <a:ext cx="671688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1371600" y="11430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685800"/>
            <a:ext cx="746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Ожирение и риск смертности от рака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ОБОВАЛИ СЕСТЬ НА ДИЕТУ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27432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«Из 100 человек, садящихся на диету для похудания, 95 набирают свой прежний вес, и даже превышают его, в течение года»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октор Ганс Дэй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 rot="10200">
            <a:off x="1676160" y="2819520"/>
            <a:ext cx="60958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47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ardvark"/>
              </a:rPr>
              <a:t>СЮРПРИЗ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47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ardvark"/>
              <a:ea typeface="Aardvark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519588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Arial"/>
              </a:rPr>
              <a:t>ПОЧЕМУ ?</a:t>
            </a:r>
            <a:endParaRPr b="0" lang="en-US" sz="8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543800" y="228600"/>
            <a:ext cx="114300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ЭФФЕКТ ВРЕМЕННЫХ            ДИЕ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для эффективного сжигания жиров необходимо достаточное количество калорий, особенно из углевод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на недостаточное количество калорий организм реагирует замедлением метаболизм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 ответ на голодание организм начинает расщеплять клетки мышц для восполнения недостающих калор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и использовании строгих диет и голодании снижение веса происходит в основном за счёт потери мышечной массы и вод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8T17:41:05Z</dcterms:created>
  <dc:creator>Ostapenco</dc:creator>
  <dc:description/>
  <dc:language>en-US</dc:language>
  <cp:lastModifiedBy>Черевичная Вера Петровна</cp:lastModifiedBy>
  <dcterms:modified xsi:type="dcterms:W3CDTF">2007-01-23T10:13:30Z</dcterms:modified>
  <cp:revision>24</cp:revision>
  <dc:subject/>
  <dc:title>ЛИШНИЙ ВЕС</dc:title>
</cp:coreProperties>
</file>